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EC3-C51C-4687-9D3D-DD8A21D0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bpage to follow TBS standards on web usability, accessibility, interoperability and standard on mobile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rtal to align with broader GC single-sign on identity managemen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follow guidelines in the Communications Policy of the GC, such as alignment with government priorities and adherence to the F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be contracted through PWGSC, ensuring openness, fairness and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V commercials to feature stock LAC images/videos and instrumental music, similar in style to recent Veterans Affairs a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seek to better acquire information resources that represent Canadian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also seek to acquire digital-born content, which includes content produced on the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 already has a vibrant social media presence. We should leverage to maximize the reach and uptake of this campa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should be provided to support these statements made in the Speech from the Thr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LAC examples and data should be drawn upon to support these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0 – percentage of world population unde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96 – percentage of millenials/Gen Y (with internet access) that have joined a soci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vid Robinson, “the admiral” due to his service in US navy, famous center for San Antonio Spurs (played with them whole care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tez Kennedy, famous defensive tackle for Seattle Seahawks (played with them his whole career), inducted this year into hall of f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submit content using the social media vehicle of their choice (not only ones LAC already us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prizes/grants for best/most original sub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uture – a tagline with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art of something bigger – a slogan to provide more con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is greater than the sum of its par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ampaign and slogan pitch, representing an overarching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ll have been developed after internal consultation with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ultations to occur through vehicles outlined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AC’s thee sector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fice of the Librarian and Archivist of Canada, Collaboration Sector and Audit and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ief Operating Offi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por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29A-E06B-4338-97AB-42CE9E8A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79C-790D-48D3-B296-B7D5FC5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D5F-40BD-4885-9846-3F362657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881-01A2-432A-9E0A-2E81C411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A4B-DDDC-4771-97BB-F8F600A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8A0-B67B-44CD-B707-111023A2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D5A-A2B6-4657-ADC8-00C51E44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E76-49B6-40E6-8D25-99633C13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41A-A7DF-4801-9DEE-3095A4B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0B9-1E5B-4BD0-997B-AD64858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CF4-3175-4689-9F8E-78FB9E4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899-94F1-49DA-A140-403ABD4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9B2-A168-46FD-A16F-8966A780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tting young people on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5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ocial media strategy to foster greater youth engagement with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6021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 Decem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athan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997360"/>
            <a:ext cx="33289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Ex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w webpage and portal for overview and submission of conten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isting channels that universities and school commissions already employ to reach their students (intranets, school email, etc.)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ternal advertising vehic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V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Viral marketing on billboards, bus shelters and posters, using #forthefuture and QR codes for mobi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cial media marketing, leveraging the #forthefuture hashtag and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Bud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 increase in A-base as per fall 2013 Speech from the Throne devot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 and media bu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nts and priz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and portal developm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robust and transparent financial mechanisms for delivering funding and grants/p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operational efficiency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92360" y="4854600"/>
          <a:ext cx="5616360" cy="1095480"/>
        </p:xfrm>
        <a:graphic>
          <a:graphicData uri="http://schemas.openxmlformats.org/drawingml/2006/table">
            <a:tbl>
              <a:tblPr/>
              <a:tblGrid>
                <a:gridCol w="1655640"/>
                <a:gridCol w="2089080"/>
                <a:gridCol w="1871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Evaluation and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o measure success/uptake at the end of the campaign, evaluation criteria and key performance indicators will be recor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umber of sub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bpag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ze of television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QR code uptake on smart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crease in likes and followers on LAC soci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l criteria to be reported to DG, Library and Archivist and other stakeholder departments (PWGSC, P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sults archived at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ategy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ign external programs with Business Plan 20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ursue priority 1 (acquisition) through new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a more inclusive and representativ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urther engage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dapt to and thrive in the changing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youth in their preferred format (online via social 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uild upon LAC’s already successful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4597560"/>
            <a:ext cx="2378160" cy="178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662360"/>
            <a:ext cx="2449800" cy="15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Young people are less inclined to preserve Canadian history and culture than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urrent LAC collection needs better alignment with Canadian demographics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imited knowledge among young people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ways room for continual growth and refinement on LAC’s social media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8640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sired futur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4954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chievement of Business Pla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pport of GC digital modernization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more robust and active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alignment of LAC collection with Canadia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AC collection more representative of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n improved, modernized image of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knowledge among youth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14720"/>
            <a:ext cx="348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social me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fall 2013 Speech from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’s web 2.0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 open data and open govern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est-growing and most important element in the new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ferred format and engagement method of young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le of 50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9560" y="407664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190188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93680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trategy and key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93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bmit content using #forthefuture hash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 part of something bigger” – a slogan for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connection from the past to the present 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 sense that youth are contributing something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form them they are contributing something lasting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n emotional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5400"/>
            <a:ext cx="860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#forthefuture</a:t>
            </a:r>
            <a:br>
              <a:rPr sz="2800"/>
            </a:b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be part of something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nd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843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Role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irector, Web, Social Media and Creative Services to oversee and report on strategy: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gular approval and feedback from DG and Librarian and Archiv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nsultations and input gathering from employees across LAC’s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university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procurement and PWGSC for profess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iaison with PWGSC and PCO for advertising 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G reports to Deputy Head, who reports to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In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feedback for campaign through two-way communication with employees in an open, collaborative fashion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employees through mechanisms such as internal blog postings, GCconnex, intranet pages, surveys and town halls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sure to incorporate employee feedback into #forthefuture strategy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Keep employees apprised of strategy developments and direction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4:17:47Z</dcterms:created>
  <dc:creator>OPIC - CIPO</dc:creator>
  <dc:description/>
  <dc:language>en-US</dc:language>
  <cp:lastModifiedBy>OPIC - CIPO</cp:lastModifiedBy>
  <dcterms:modified xsi:type="dcterms:W3CDTF">2013-12-19T17:28:09Z</dcterms:modified>
  <cp:revision>21</cp:revision>
  <dc:subject/>
  <dc:title>Slide 1</dc:title>
</cp:coreProperties>
</file>