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32D2-E3DF-481A-B7C7-8EB4170B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bpage to follow TBS standards on web usability, accessibility, interoperability and standard on mobile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rtal to align with broader GC single-sign on identity management 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follow guidelines in the Communications Policy of the GC, such as alignment with government priorities and adherence to the F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be contracted through PWGSC, ensuring openness, fairness and transpar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also to be coordinated with PCO, pre-tested, measured and reported on afte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V commercials to feature stock LAC images/videos and instrumental music, similar in style to recent Veterans Affairs a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comptrollership best practices int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ly manage resources and resource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 value for money and operational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rigorous system for financial info mgmt, internal audit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n any audit or evalua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dget wrap-up and rigorous comptrollership practices to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seek to better acquire information resources that represent Canadian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also seek to acquire digital-born content, which includes content produced on the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 already has a vibrant social media presence. We should leverage to maximize the reach and uptake of this campa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P priorit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quire information resources that represent Canadian societ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mprove documentary heritage preservation in analogue and digital forma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mprove access to and distribution of content with digital technologi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opt a more collaborative approach to carry out the mandate and support documentary heritage communities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the infrastructure and new competencies required to ensure documentary heritage management in the 21st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should be provided to support these statements made in the Speech from the Thr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LAC examples and data should be drawn upon to support these stat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egration with data.gc.ca and open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nada.ca super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ngle sign-on identit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eat room for growth on Instagram, Pinterest – social media is still an emerging opportunity, especially in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re open collection equates to more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tter operational efficiency to meet budget cuts ($98.3M in 2013 to $90M in 20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cial media is a way that lets us turn vision and policy into concret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’ll make us more operationally 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s changing departmental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lows us to connect with our audiences – collaboration, stakeholder eng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ts us listen to and respect stakeholde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cilitates the exchanging of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0 – percentage of world population unde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96 – percentage of millenials/Gen Y (with internet access) that have joined a soci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vid Robinson, “the admiral” due to his service in US navy, famous center for San Antonio Spurs (played with them whole care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tez Kennedy, famous defensive tackle for Seattle Seahawks (played with them his whole career), inducted this year into hall of f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rs can submit content using the social media vehicle of their choice (not only ones LAC already us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ke I mentioned lots of room for growth on platforms such as Pinterest and Inst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velop prizes/grants for best/most original sub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 the future – a tagline with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 part of something bigger – a slogan to provide more con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whole is greater than the sum of its part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is the campaign and slogan pitch, representing an overarching 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will have been developed after internal consultation with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s plan el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goals – define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and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al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and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and lessons lear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ultations to occur through vehicles outlined i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AC’s thee sector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fice of the Librarian and Archivist of Canada, Collaboration Sector and Audit and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ief Operating Offi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porat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edback from employees helps foster a climate of transparency, trust and respect in the work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re feedback from more sources the better, to form a comprehensive perspe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eck for interdependencies with other departmental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rizontal and vertical info sh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municate the vision clearly to employ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legate appropriate tasks to managers and work one-on-one with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alistic timelines and account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dentify resources and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659-86F9-4638-A370-973D3223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B7E-BE21-4D35-A1DD-D91468CE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D7D-F4CE-4D57-B6EB-96A4981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B8C-72B2-40A7-A0AE-B03FF0A4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25C-1C78-4AFD-A2CF-150D36B9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FE9-EC79-4918-87BC-422AA4C1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327-3123-4BE6-AA6D-C3FFBF7A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4D0-4B37-4015-A208-C402924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699-34D1-4B8D-BFDD-6E6065AE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B38-D40E-4B44-B684-772C648B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D03-3394-4D09-AD38-B81EFFC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4DC-DDF3-4966-84A9-2D5D213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F484-FAA4-4BF2-AED1-CF53182DB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Getting young people on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57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ocial media strategy to foster greater youth engagement with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6021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 Decem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nathan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2997360"/>
            <a:ext cx="33289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Ex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New webpage and portal for overview and submission of conten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isting channels that universities and school commissions already employ to reach their students (intranets, school email, etc.)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ternal advertising vehic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V commer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Viral marketing on billboards, bus shelters and posters, using #forthefuture and QR codes for mobi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ocial media marketing, leveraging the #forthefuture hashtag and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. Bud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ing increase in A-base as per fall 2013 Speech from the Throne devot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ing and media bu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nts and priz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and portal developm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robust and transparent financial mechanisms for delivering funding and grants/p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 operational efficiency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92360" y="4854600"/>
          <a:ext cx="5616360" cy="1095480"/>
        </p:xfrm>
        <a:graphic>
          <a:graphicData uri="http://schemas.openxmlformats.org/drawingml/2006/table">
            <a:tbl>
              <a:tblPr/>
              <a:tblGrid>
                <a:gridCol w="1655640"/>
                <a:gridCol w="2089080"/>
                <a:gridCol w="18716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. Evaluation and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o measure success/uptake at the end of the campaign, evaluation criteria and key performance indicators will be recor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umber of sub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ebpag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ze of television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QR code uptake on smart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Increase in likes and followers on LAC soci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l criteria to be reported to DG, Library and Archivist and other stakeholder departments (PWGSC, PC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Results archived at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rategy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ign external programs with Business Plan 20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Pursue priority 1 (acquisition) through new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a more inclusive and representativ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urther engage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dapt to and thrive in the changing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youth in their preferred format (online via social m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uild upon LAC’s already successful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08720" y="4597560"/>
            <a:ext cx="2378160" cy="178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662360"/>
            <a:ext cx="2449800" cy="15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4954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Young people are less inclined to preserve Canadian history and culture than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urrent LAC collection needs better alignment with Canadian demographics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imited knowledge among young people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ways room for continual growth and refinement on LAC’s social media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8640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sired futur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49544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chievement of Business Pla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pport of GC digital modernization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more robust and active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alignment of LAC collection with Canadia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AC collection more representative of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n improved, modernized image of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knowledge among youth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14720"/>
            <a:ext cx="3480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social me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fall 2013 Speech from the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’s web 2.0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 open data and open governmen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est-growing and most important element in the new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ferred format and engagement method of young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le of 50-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89560" y="407664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190188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193680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trategy and key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93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bmit content using #forthefuture hash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 part of something bigger” – a slogan for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connection from the past to the present 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 sense that youth are contributing something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form them they are contributing something lasting and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n emotional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5400"/>
            <a:ext cx="860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#forthefuture</a:t>
            </a:r>
            <a:br>
              <a:rPr sz="2800"/>
            </a:br>
            <a:r>
              <a:rPr b="1" i="1" lang="en-CA" sz="2800" spc="-1" strike="noStrike">
                <a:solidFill>
                  <a:srgbClr val="333399"/>
                </a:solidFill>
                <a:latin typeface="Verdana"/>
              </a:rPr>
              <a:t>be part of something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and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843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Role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irector, Web, Social Media and Creative Services to oversee and report on strategy: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egular approval and feedback from DG and Librarian and Archiv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nsultations and input gathering from employees across LAC’s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university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procurement and PWGSC for professi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Liaison with PWGSC and PCO for advertising 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G reports to Deputy Head, who reports to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In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feedback for campaign through two-way communication with employees in an open, collaborative fashion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employees through mechanisms such as internal blog postings, GCconnex, intranet pages, surveys and town halls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sure to incorporate employee feedback into #forthefuture strategy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Keep employees apprised of strategy developments and direction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4:17:47Z</dcterms:created>
  <dc:creator>OPIC - CIPO</dc:creator>
  <dc:description/>
  <dc:language>en-US</dc:language>
  <cp:lastModifiedBy>OPIC - CIPO</cp:lastModifiedBy>
  <dcterms:modified xsi:type="dcterms:W3CDTF">2014-01-21T00:57:59Z</dcterms:modified>
  <cp:revision>26</cp:revision>
  <dc:subject/>
  <dc:title>Slide 1</dc:title>
</cp:coreProperties>
</file>